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F6F-D033-4DBD-B747-DCB7E292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535-0924-4F4B-8746-42FCAD0B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72E-591B-42BE-A4E3-F96602C5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22E-7CE3-4BA5-A6BE-F575A6CE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9D8-6DDC-492E-BDC9-EE0384BC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8D9-1A3A-476A-9D27-456F9530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27D-A3DD-4F16-B0FE-DCD66022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75B-5BFF-4B24-B877-B0BA9D9C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142-D029-45C8-9967-F3CAB0D1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501-752D-4633-95D9-EB6FF83A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918-9AE6-40A1-B538-A706BD36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588-B174-4402-9FEE-68FCD535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E84C-37DA-408A-8F5A-B127283B3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2/Int 1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25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48428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ive a detailed explanation of development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Select your main weak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Describe your current level of performance of this sk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How does this affect you in a g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How will it help your performance if you develop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ving a weak overhead clear mea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484280"/>
            <a:ext cx="8458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en you perform this shot there is a chance your opponent may return with a smash.  Why is this a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do not have a defensive shot in your repertoire.  Why is this a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do not have a wide variety of shots.  Why is this a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ving a strong overhead clear mea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48428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can force your opponent to the back of their court creating space to attack at the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can give yourself time to recover and set up for your next s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have an option from the back of the court to play your return to the back or the from of your opponents court and this makes you less predic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tension Tas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4842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scribe the overhead clear in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should be mention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ext We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484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Friday you will be set into ability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ext week we will start working through progressive practices to improve your overhead cl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676520"/>
            <a:ext cx="815328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the end of this lesson you should a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se results from initial data gathering to analyse strengths and weaknesses i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se results from focused data gathering to analyse strengths and weaknesses i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lain your own developmenta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197000"/>
            <a:ext cx="84582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Complete questions 3 and 4 on lined A4 paper. Make sure that you are very detailed in your answers and write very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Write down the question before you answ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Use the wikipage to recap what we have covered and to see schedules. (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wikispaces.com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) (int2-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Due date – Wednesday 2</a:t>
            </a:r>
            <a:r>
              <a:rPr b="0" i="1" lang="en-GB" sz="2800" spc="-1" strike="noStrike" baseline="30000">
                <a:solidFill>
                  <a:srgbClr val="ffff00"/>
                </a:solidFill>
                <a:latin typeface="Comic Sans MS"/>
              </a:rPr>
              <a:t>nd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815328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the end of this lesson you should a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se results from initial data gathering to analyse strengths and weaknesses i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se results from focused data gathering to analyse strengths and weaknesses i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lain your own developmenta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752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4.  EVALUATE - Reflect on the benefits of your programme of work and discuss future developm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26708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  ANALYSE - Explain how key concept knowledge helped you analys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144792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  INVESTIGATE - Explain how performance was investigated through colle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45720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3.  DEVELOP - Explain the content and suitability of the programme you wer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066680"/>
            <a:ext cx="334152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7200"/>
            <a:ext cx="4114800" cy="7621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580560" y="601992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205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explanatio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of your strengths and weakness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nalysing D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06064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ou must go through each of your 3 schedules and identify strengths and weaknesses in your performance and explain what affect this has on your g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nalysing D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06064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ask 1 - As a class we will now write down strengths and weaknesses for an example player - player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 order to do this we must compare with a model perform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nalysing D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06064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ask 2 – You should now do this for your own performance using your own sched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ime – 10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For Question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268280"/>
            <a:ext cx="84582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Remember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Give a detailed explanation of your strengths and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Take 3 strengths and weaknesses from each observation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Consideration of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Movemen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Scatter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Explain how these weaknesses affect you in a g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2050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development needs 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1-25T11:44:02Z</dcterms:modified>
  <cp:revision>26</cp:revision>
  <dc:subject/>
  <dc:title>Intermediate PE</dc:title>
</cp:coreProperties>
</file>